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938-EFA5-432A-BF77-B5C71789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ED5-90E9-4797-A06A-0FD2500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55A-F1A0-4F2C-A356-2699C623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4CD-E521-4BF1-ABAA-B769CF35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AB5A-CB59-493B-B256-DC8E3B28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4616-51F3-433C-9FFB-9F12230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AB45-03C9-46DC-928C-9779009C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9EC6-D404-4DC6-9107-235B326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8E19-93C1-437D-9501-C75583D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7AA6-8E20-418D-952D-1542044C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5780-C668-401A-A9D2-43B2E6D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5D7-5A0B-4534-A49A-22185CB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090B-5E2E-471B-9749-52AD228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2A1D-6AEF-4CEF-8814-90DEF44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3D7C-2B25-43F8-A695-8C14776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7C5C-9EEF-47A7-8FEA-3C9B585B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ECC6-7F86-4A63-87AE-7342E321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917B-5A40-4F5C-A802-3827F55D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1583-3F19-4A69-A7FA-ACABEFB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F9C1-3BF2-4915-BCF7-F2F823A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5DD9-690A-4146-90C7-F5E3FBB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2743-34AD-42DF-B0EA-40A9B51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547-58F3-47A9-92ED-BFCFB12A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3A2C-A15A-4D51-AB84-21119C6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4E57-08EA-49F1-B49C-B8857C93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5FDE-6D1C-4FC2-B5A8-6B3D985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7E8B-9626-4DB0-AC41-52BD6B8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B4C7-E9BE-4004-8CA5-E0525FD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81EF-63AD-4B34-AF60-F4C4F273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3328-48A4-4753-BC7A-4A9BBF5E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960C-E036-4331-BE42-7A3718D5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7460-2E82-4E36-BAD5-B3DB1D8F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8940-1B54-4BF4-BEAE-045E097D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924-A1D0-41FE-8A00-DFB9669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20D5-5150-4254-A064-7E4156B0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5DEB-B93A-4FC9-90B4-C069079E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434C-82BA-4937-A894-F9846555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ECC7-91C1-4F92-B950-3E79B36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8298-D34B-40D2-8E65-28504D3F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8086-E610-4E34-BA5A-816C7269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957C-1319-4850-83EF-DC21D7E4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506E-982B-4CA6-9903-D74D3D8F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F765-004E-4C4D-B430-CA2ADB89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427-9C32-46B4-8892-66379A00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0D4-269F-4CE6-A33D-6EF8CA3F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B00-C49C-463B-8A6D-BB0FA39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79F-0C22-4EBA-9D04-0C9F954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834-7FDF-4FA3-AF10-A19096B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D94-3940-412E-B826-0E075C65E8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8FC9-CF69-435F-979C-1D6AE5A596B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334-FE6E-480A-BBE9-E4F45C4263F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44D0-C849-4532-B1E3-CB084FF8BB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dbf5f9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s://www.youtube.com/watch?v=TNKWgcFPHqwhttps://www.youtube.com/watch?v=TNKWgcFPHq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1-11-15T15:16:37Z</dcterms:modified>
  <cp:revision>101</cp:revision>
  <dc:subject/>
  <dc:title>2-Humani genom</dc:title>
</cp:coreProperties>
</file>